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621-F403-44C5-8014-2BA9FA1C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D96C-609B-453C-8B2F-7CCC4AFF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7720-DB43-4E1B-89D9-84A83981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3B09-E4DC-4055-92A8-16AF55A2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6224-5AA5-4FA6-BE4E-D4126505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8530-C794-4AFA-8786-88AFF14F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B3D1-ED6F-47C6-AA3F-7D0C9B09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507F-0CBA-44B3-9776-AF014152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19ED-C983-49F5-BA5F-A061C1B0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EEEE-4238-4171-8060-30829F53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56FF-7EE7-4715-A148-31910942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2C1-5F1B-48AA-9F69-B79DBD85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823F-0A1B-4A05-A35E-7D428B8C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8C50-E745-43B4-9F0D-562C603F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B3D8-9900-4B4A-9F1F-6FC96896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50CC-57DE-4728-BED2-FD24C5F7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21B5-2EDC-4D8C-A1FC-975BF15D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957365-6146-409E-BB69-99F3FB1A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2D286-D964-4BA0-8BB3-F86C7D40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3E20DC-A0A0-4778-8156-893E64E2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0CED3F-339E-4F61-ACA6-1EA9E2DB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48676-1BE2-40DA-B2C3-ED3D6964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32D6-9B3B-408E-B098-5FADFDF5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206F4-B11B-46BE-BDE9-B8B849C4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9C433-04DA-4C43-8669-C67E6D9F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BBCE0-2478-4813-9B79-D13FFB01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5D93F2-2C11-47B7-AFB9-765E3909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55F66-3DFD-49FA-92D2-BFD373C6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3686B-5561-4E92-972F-FF53EDC6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5E3084-6F86-4B49-9155-FB269A81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DE668-74EA-40F4-A4BA-7A7D5F8B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34D8F-9418-48F0-B8F9-01842EA9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30757-CE80-4D7C-9EDF-5B09E387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3133-5928-4E7A-A4D0-2F0CA12A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922AA-EECD-4C87-AF32-55038CCC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3C1A2-2323-4AD5-A529-DC069C4D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9B878-CB15-4178-A135-6FACCB79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2F25A-051C-4CE6-986C-632ED72F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517E5-2EC9-4284-BBA1-AC8BB03B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01F9B-4D60-4248-A54F-0EA6E1F1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67B1D-09E6-4F81-BA1B-8CF12F32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55FCC-610A-468B-B362-520BB24B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7921D-A3FE-4D04-BD20-39622ED1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2005C-A59F-41DF-ADB1-E7E52CD4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5A85-3A42-433D-BC57-33D89BB9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2F2E1-34A6-4D30-90C5-CAF9D470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B866E-F6D1-403E-897E-8032E264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5E3A5-A62A-414E-92DB-C169C8F4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41D3A-A45E-40CF-8F65-5F241552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4F8C5-A796-4042-87B6-A92C8555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0C8EF-6414-4DE9-8079-6E2E4B3E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7C40E-DB5D-45FE-B113-EDFB46EE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38AEA-8242-4885-B4FF-01C4D668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7C0C0-D442-4B4F-A3DA-F7F52375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DE680-2D01-41E7-81B6-7AD47D8C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CC2A-2CA7-4AC3-9161-DCBA14AC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3A197-56AE-41F4-9123-F3F06181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4FF7D-B09E-4702-B1CD-84A3808C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4AF8E-82CC-4E81-8411-CFCE82F3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3A51D-68C7-4DA3-B19B-5BC748D9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65A52-321B-4472-B804-F9E98FEE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9E2CC-9B97-4CB1-A628-4CC4B8AB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A4B53-E593-49AA-B11A-0A75E3A2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6115D-A4A6-4D64-B305-04B1E887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0A125-9404-4AF1-BA65-3272CE9B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0F5AD-B4FF-4AFE-952B-3798B40D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45E5-85E3-4B03-9785-36F1359E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2DCBC-B825-4561-B925-84B04A54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35E2E-97DD-4F08-8B08-48175490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B2B0D-B9E9-41E5-995A-9633F9C8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9E7-BD44-4A3F-9E2A-CE8CF116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94E2-3C6B-482E-8EA5-8442B243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A92B-8252-48BD-AD16-1BD42633DF0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26BC-5D73-400E-8052-2BB7AA0DA2F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2862-6694-4E46-AA05-9D6955FDF8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5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60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0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0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C838-B44E-4918-B299-C7822DCADB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9549-45C2-4ED4-B2F7-5C4EB60836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0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04F8-79C5-428E-8C19-69270F7C8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nventors.about.com/library/weekly/aacarssteama.ht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6172200" y="62485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0" y="5029200"/>
            <a:ext cx="2286000" cy="1620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 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/7/2011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mputer 5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447920" y="304920"/>
            <a:ext cx="647676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Automobil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819520" y="4952880"/>
            <a:ext cx="3657600" cy="19051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45720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00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Old Engraving depicting the 1771 crash of Nicolas Joseph Cugnot's steam powered car"/>
          <p:cNvPicPr/>
          <p:nvPr/>
        </p:nvPicPr>
        <p:blipFill>
          <a:blip r:embed="rId1"/>
          <a:stretch/>
        </p:blipFill>
        <p:spPr>
          <a:xfrm>
            <a:off x="0" y="152280"/>
            <a:ext cx="6019920" cy="40388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0" y="4267080"/>
            <a:ext cx="5562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bout.com,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The history of the automobile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January 11, 2011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"/>
                <a:hlinkClick r:id="rId2"/>
              </a:rPr>
              <a:t>http://inventors.about.com/library/weekly/aacarssteama.ht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019920" y="42670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his invention revolutionized the world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vention: Automobi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utomobile was steam power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used the automobile in the French army to haul artille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op speed was two and an half miles per hou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utomobile had to stop every ten to fifteen minutes to build up stea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irst automobile was built in France Par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ventor: Nicolas Joseph Cugno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was a French engineer and mechan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was born in 1725 and died 18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crashed the very first automobile into a brick w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was the first person to be in a car accid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hired some one to build the automobile with specific dire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31:25Z</dcterms:created>
  <dc:creator>install</dc:creator>
  <dc:description/>
  <dc:language>en-US</dc:language>
  <cp:lastModifiedBy>install</cp:lastModifiedBy>
  <dcterms:modified xsi:type="dcterms:W3CDTF">2011-01-14T16:53:20Z</dcterms:modified>
  <cp:revision>8</cp:revision>
  <dc:subject/>
  <dc:title>Slide 1</dc:title>
</cp:coreProperties>
</file>